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1BE-75D5-4C92-B961-D0886D80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29C-EF7B-419F-A62C-7C8C1D4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A83-191F-4578-A219-0366B75C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DDF-AB30-42CF-BAC9-5D1A7362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7300-0FB5-4331-87B8-9DC8CC35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8AF4-BE1D-41C8-879D-13A28765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D61-68BA-4964-89D5-3B600D0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97C8-4D55-4128-8C48-744D49B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D1F-A519-49B2-9187-3D0C406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0FD7-5B0D-4311-8E05-3C225AA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219B-597E-4F37-8421-6B16862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E72-A471-4CC8-AFF4-52797D0B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9FD0-EC2B-4964-AD09-D842909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F12-BE44-481B-AE6B-F0BDBA9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B5E6-FE34-4428-A25D-21F12388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319-5BA2-4B39-8AF1-69D8296F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9AD-3017-4679-AEB7-927E1B69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920-1A3D-47FF-9111-C5BBB4DA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073-2E5C-4256-920C-A557057E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28D-70DE-49DE-B85B-8DFC4A92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6EC-6416-4FC1-951E-E5F90ACA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377-7C02-42F6-9EB9-A2C64F3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824-C56C-481C-A67C-7BC9A8C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0E-6C26-4515-9C74-9EE3092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Cartoons\People2\LC15132C.WMF"/>
          <p:cNvPicPr/>
          <p:nvPr/>
        </p:nvPicPr>
        <p:blipFill>
          <a:blip r:embed="rId2"/>
          <a:stretch/>
        </p:blipFill>
        <p:spPr>
          <a:xfrm>
            <a:off x="5195880" y="4827600"/>
            <a:ext cx="3948120" cy="20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2DFF-480A-42FE-8303-D63B1D8C5B5D}" type="datetime">
              <a:rPr b="0" lang="en-US" sz="1400" spc="-1" strike="noStrike">
                <a:solidFill>
                  <a:srgbClr val="cc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62FA4-B47E-49DD-BB71-80EF48AEA9AC}" type="slidenum">
              <a:rPr b="0" lang="en-US" sz="1400" spc="-1" strike="noStrike">
                <a:solidFill>
                  <a:srgbClr val="cc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:\Cartoons\People2\LC15113C.WMF"/>
          <p:cNvPicPr/>
          <p:nvPr/>
        </p:nvPicPr>
        <p:blipFill>
          <a:blip r:embed="rId3"/>
          <a:stretch/>
        </p:blipFill>
        <p:spPr>
          <a:xfrm>
            <a:off x="0" y="5062680"/>
            <a:ext cx="190512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E:\Cartoons\People2\LC15129C.WMF"/>
          <p:cNvPicPr/>
          <p:nvPr/>
        </p:nvPicPr>
        <p:blipFill>
          <a:blip r:embed="rId2"/>
          <a:stretch/>
        </p:blipFill>
        <p:spPr>
          <a:xfrm>
            <a:off x="7021440" y="0"/>
            <a:ext cx="212256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4" name="Picture 11" descr="E:\Cartoons\People2\LC15102C.WMF"/>
          <p:cNvPicPr/>
          <p:nvPr/>
        </p:nvPicPr>
        <p:blipFill>
          <a:blip r:embed="rId3"/>
          <a:stretch/>
        </p:blipFill>
        <p:spPr>
          <a:xfrm>
            <a:off x="0" y="3262320"/>
            <a:ext cx="3675240" cy="35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5" name="Picture 12" descr="E:\Cartoons\People2\LC15090C.WMF"/>
          <p:cNvPicPr/>
          <p:nvPr/>
        </p:nvPicPr>
        <p:blipFill>
          <a:blip r:embed="rId4"/>
          <a:stretch/>
        </p:blipFill>
        <p:spPr>
          <a:xfrm>
            <a:off x="6400800" y="4152960"/>
            <a:ext cx="27432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29AA8-44A3-4F80-917B-83B1CE1B998B}" type="datetime">
              <a:rPr b="0" lang="en-US" sz="1400" spc="-1" strike="noStrike">
                <a:solidFill>
                  <a:srgbClr val="00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060BD-E397-451A-A5EC-65AA8A38DEDF}" type="slidenum">
              <a:rPr b="0" lang="en-US" sz="1400" spc="-1" strike="noStrike">
                <a:solidFill>
                  <a:srgbClr val="00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ession 2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5600" y="2901600"/>
            <a:ext cx="6548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lanning for Instruc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281160"/>
            <a:ext cx="7772400" cy="58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Analyz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distinguish between the different parts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praise, compare, contrast, criticize, differentiate, discriminate, distinguish, examine, experiment, question, test.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Evaluat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justify a stand or decision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praise, argue, defend, judge, select, support, value, evaluate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Creat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create new product or point of view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ssemble, construct, create, design, develop, formulate, write.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9" name="Action Button: Custom 3"/>
          <p:cNvSpPr/>
          <p:nvPr/>
        </p:nvSpPr>
        <p:spPr>
          <a:xfrm>
            <a:off x="7108920" y="5773680"/>
            <a:ext cx="477720" cy="322200"/>
          </a:xfrm>
          <a:custGeom>
            <a:avLst/>
            <a:gdLst>
              <a:gd name="textAreaLeft" fmla="*/ 20880 w 477720"/>
              <a:gd name="textAreaRight" fmla="*/ 456840 w 477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2014" h="21600">
                <a:moveTo>
                  <a:pt x="0" y="0"/>
                </a:moveTo>
                <a:lnTo>
                  <a:pt x="32014" y="0"/>
                </a:lnTo>
                <a:lnTo>
                  <a:pt x="32014" y="21600"/>
                </a:lnTo>
                <a:lnTo>
                  <a:pt x="0" y="21600"/>
                </a:lnTo>
                <a:close/>
              </a:path>
              <a:path fill="lightenLess" w="32014" h="21600">
                <a:moveTo>
                  <a:pt x="0" y="0"/>
                </a:moveTo>
                <a:lnTo>
                  <a:pt x="32014" y="0"/>
                </a:lnTo>
                <a:lnTo>
                  <a:pt x="30614" y="1400"/>
                </a:lnTo>
                <a:lnTo>
                  <a:pt x="1400" y="1400"/>
                </a:lnTo>
                <a:close/>
              </a:path>
              <a:path fill="darken" w="32014" h="21600">
                <a:moveTo>
                  <a:pt x="32014" y="0"/>
                </a:moveTo>
                <a:lnTo>
                  <a:pt x="32014" y="21600"/>
                </a:lnTo>
                <a:lnTo>
                  <a:pt x="30614" y="20200"/>
                </a:lnTo>
                <a:lnTo>
                  <a:pt x="30614" y="1400"/>
                </a:lnTo>
                <a:close/>
              </a:path>
              <a:path fill="darkenLess" w="32014" h="21600">
                <a:moveTo>
                  <a:pt x="32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14" y="20200"/>
                </a:lnTo>
                <a:close/>
              </a:path>
              <a:path fill="lighten" w="32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Alignmen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nstruction with state and local standards in methods, materials, and assignments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e instruction and the evaluation based on the objectives. (Curriculum Alignment)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2" name="Action Button: Custom 3"/>
          <p:cNvSpPr/>
          <p:nvPr/>
        </p:nvSpPr>
        <p:spPr>
          <a:xfrm>
            <a:off x="7142040" y="6095880"/>
            <a:ext cx="511200" cy="320760"/>
          </a:xfrm>
          <a:custGeom>
            <a:avLst/>
            <a:gdLst>
              <a:gd name="textAreaLeft" fmla="*/ 20520 w 511200"/>
              <a:gd name="textAreaRight" fmla="*/ 490680 w 51120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34410" h="21600">
                <a:moveTo>
                  <a:pt x="0" y="0"/>
                </a:moveTo>
                <a:lnTo>
                  <a:pt x="34410" y="0"/>
                </a:lnTo>
                <a:lnTo>
                  <a:pt x="34410" y="21600"/>
                </a:lnTo>
                <a:lnTo>
                  <a:pt x="0" y="21600"/>
                </a:lnTo>
                <a:close/>
              </a:path>
              <a:path fill="lightenLess" w="34410" h="21600">
                <a:moveTo>
                  <a:pt x="0" y="0"/>
                </a:moveTo>
                <a:lnTo>
                  <a:pt x="34410" y="0"/>
                </a:lnTo>
                <a:lnTo>
                  <a:pt x="33010" y="1400"/>
                </a:lnTo>
                <a:lnTo>
                  <a:pt x="1400" y="1400"/>
                </a:lnTo>
                <a:close/>
              </a:path>
              <a:path fill="darken" w="34410" h="21600">
                <a:moveTo>
                  <a:pt x="34410" y="0"/>
                </a:moveTo>
                <a:lnTo>
                  <a:pt x="34410" y="21600"/>
                </a:lnTo>
                <a:lnTo>
                  <a:pt x="33010" y="20200"/>
                </a:lnTo>
                <a:lnTo>
                  <a:pt x="33010" y="1400"/>
                </a:lnTo>
                <a:close/>
              </a:path>
              <a:path fill="darkenLess" w="34410" h="21600">
                <a:moveTo>
                  <a:pt x="34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10" y="20200"/>
                </a:lnTo>
                <a:close/>
              </a:path>
              <a:path fill="lighten" w="34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9360">
            <a:solidFill>
              <a:srgbClr val="c2fff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Backward Design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49160"/>
            <a:ext cx="77724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nnovative Approach to Planning based on the work of Grant Wiggins and Jay McTighe (Understanding by Design) UbD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ree Main Stages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Desired results (big ideas, enduring understandings, essential questions) 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281160"/>
            <a:ext cx="7772400" cy="58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ssessment evidence (How will students demonstrate what they have learned or can do)?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earning Activities (What opportunities will the student have to learn)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Planning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Vital and basic skill for effective teaching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Helps you feel organized and prepared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s only a guide: not carved in ston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llows for review of and reflection on lesson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How Do I start Planning a Unit?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Gather and locate all resources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Such as State Standard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extbook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Media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echnology Resource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rade Book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Community Resource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Etc…..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9807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ook at the textbook…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Decide on your goals and objectives…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lignment….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Backward Desig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Now Begin the unit…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5" name="Action Button: Custom 9"/>
          <p:cNvSpPr/>
          <p:nvPr/>
        </p:nvSpPr>
        <p:spPr>
          <a:xfrm>
            <a:off x="281160" y="2771640"/>
            <a:ext cx="404640" cy="263520"/>
          </a:xfrm>
          <a:custGeom>
            <a:avLst/>
            <a:gdLst>
              <a:gd name="textAreaLeft" fmla="*/ 16920 w 404640"/>
              <a:gd name="textAreaRight" fmla="*/ 387720 w 40464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3151" h="21600">
                <a:moveTo>
                  <a:pt x="0" y="0"/>
                </a:moveTo>
                <a:lnTo>
                  <a:pt x="33151" y="0"/>
                </a:lnTo>
                <a:lnTo>
                  <a:pt x="33151" y="21600"/>
                </a:lnTo>
                <a:lnTo>
                  <a:pt x="0" y="21600"/>
                </a:lnTo>
                <a:close/>
              </a:path>
              <a:path fill="lightenLess" w="33151" h="21600">
                <a:moveTo>
                  <a:pt x="0" y="0"/>
                </a:moveTo>
                <a:lnTo>
                  <a:pt x="33151" y="0"/>
                </a:lnTo>
                <a:lnTo>
                  <a:pt x="31751" y="1400"/>
                </a:lnTo>
                <a:lnTo>
                  <a:pt x="1400" y="1400"/>
                </a:lnTo>
                <a:close/>
              </a:path>
              <a:path fill="darken" w="33151" h="21600">
                <a:moveTo>
                  <a:pt x="33151" y="0"/>
                </a:moveTo>
                <a:lnTo>
                  <a:pt x="33151" y="21600"/>
                </a:lnTo>
                <a:lnTo>
                  <a:pt x="31751" y="20200"/>
                </a:lnTo>
                <a:lnTo>
                  <a:pt x="31751" y="1400"/>
                </a:lnTo>
                <a:close/>
              </a:path>
              <a:path fill="darkenLess" w="33151" h="21600">
                <a:moveTo>
                  <a:pt x="33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51" y="20200"/>
                </a:lnTo>
                <a:close/>
              </a:path>
              <a:path fill="lighten" w="33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ction Button: Custom 11">
            <a:hlinkClick r:id="" action="ppaction://hlinkshowjump?jump=nextslide"/>
          </p:cNvPr>
          <p:cNvSpPr/>
          <p:nvPr/>
        </p:nvSpPr>
        <p:spPr>
          <a:xfrm>
            <a:off x="281160" y="2209680"/>
            <a:ext cx="404640" cy="265320"/>
          </a:xfrm>
          <a:custGeom>
            <a:avLst/>
            <a:gdLst>
              <a:gd name="textAreaLeft" fmla="*/ 16920 w 404640"/>
              <a:gd name="textAreaRight" fmla="*/ 387720 w 40464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32927" h="21600">
                <a:moveTo>
                  <a:pt x="0" y="0"/>
                </a:moveTo>
                <a:lnTo>
                  <a:pt x="32927" y="0"/>
                </a:lnTo>
                <a:lnTo>
                  <a:pt x="32927" y="21600"/>
                </a:lnTo>
                <a:lnTo>
                  <a:pt x="0" y="21600"/>
                </a:lnTo>
                <a:close/>
              </a:path>
              <a:path fill="lightenLess" w="32927" h="21600">
                <a:moveTo>
                  <a:pt x="0" y="0"/>
                </a:moveTo>
                <a:lnTo>
                  <a:pt x="32927" y="0"/>
                </a:lnTo>
                <a:lnTo>
                  <a:pt x="31527" y="1400"/>
                </a:lnTo>
                <a:lnTo>
                  <a:pt x="1400" y="1400"/>
                </a:lnTo>
                <a:close/>
              </a:path>
              <a:path fill="darken" w="32927" h="21600">
                <a:moveTo>
                  <a:pt x="32927" y="0"/>
                </a:moveTo>
                <a:lnTo>
                  <a:pt x="32927" y="21600"/>
                </a:lnTo>
                <a:lnTo>
                  <a:pt x="31527" y="20200"/>
                </a:lnTo>
                <a:lnTo>
                  <a:pt x="31527" y="1400"/>
                </a:lnTo>
                <a:close/>
              </a:path>
              <a:path fill="darkenLess" w="32927" h="21600">
                <a:moveTo>
                  <a:pt x="329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27" y="20200"/>
                </a:lnTo>
                <a:close/>
              </a:path>
              <a:path fill="lighten" w="329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Custom 12"/>
          <p:cNvSpPr/>
          <p:nvPr/>
        </p:nvSpPr>
        <p:spPr>
          <a:xfrm>
            <a:off x="281160" y="3365640"/>
            <a:ext cx="404640" cy="296640"/>
          </a:xfrm>
          <a:custGeom>
            <a:avLst/>
            <a:gdLst>
              <a:gd name="textAreaLeft" fmla="*/ 19080 w 404640"/>
              <a:gd name="textAreaRight" fmla="*/ 385560 w 404640"/>
              <a:gd name="textAreaTop" fmla="*/ 19080 h 296640"/>
              <a:gd name="textAreaBottom" fmla="*/ 277560 h 29664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ction Button: Custom 13"/>
          <p:cNvSpPr/>
          <p:nvPr/>
        </p:nvSpPr>
        <p:spPr>
          <a:xfrm>
            <a:off x="281160" y="3951360"/>
            <a:ext cx="404640" cy="345960"/>
          </a:xfrm>
          <a:custGeom>
            <a:avLst/>
            <a:gdLst>
              <a:gd name="textAreaLeft" fmla="*/ 22320 w 404640"/>
              <a:gd name="textAreaRight" fmla="*/ 382320 w 4046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5260" h="21600">
                <a:moveTo>
                  <a:pt x="0" y="0"/>
                </a:moveTo>
                <a:lnTo>
                  <a:pt x="25260" y="0"/>
                </a:lnTo>
                <a:lnTo>
                  <a:pt x="25260" y="21600"/>
                </a:lnTo>
                <a:lnTo>
                  <a:pt x="0" y="21600"/>
                </a:lnTo>
                <a:close/>
              </a:path>
              <a:path fill="lightenLess" w="25260" h="21600">
                <a:moveTo>
                  <a:pt x="0" y="0"/>
                </a:moveTo>
                <a:lnTo>
                  <a:pt x="25260" y="0"/>
                </a:lnTo>
                <a:lnTo>
                  <a:pt x="23860" y="1400"/>
                </a:lnTo>
                <a:lnTo>
                  <a:pt x="1400" y="1400"/>
                </a:lnTo>
                <a:close/>
              </a:path>
              <a:path fill="darken" w="25260" h="21600">
                <a:moveTo>
                  <a:pt x="25260" y="0"/>
                </a:moveTo>
                <a:lnTo>
                  <a:pt x="25260" y="21600"/>
                </a:lnTo>
                <a:lnTo>
                  <a:pt x="23860" y="20200"/>
                </a:lnTo>
                <a:lnTo>
                  <a:pt x="23860" y="1400"/>
                </a:lnTo>
                <a:close/>
              </a:path>
              <a:path fill="darkenLess" w="25260" h="21600">
                <a:moveTo>
                  <a:pt x="25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0" y="20200"/>
                </a:lnTo>
                <a:close/>
              </a:path>
              <a:path fill="lighten" w="25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Should every unit get major emphasis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Are there some you can “skim” to enable more time for others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What activities are recommended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What other activities can you imagine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Textbook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Be prepared to change things….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If the student’s lack the prior knowledge for a unit, what do you need to do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Plan to use some instructional strategies to find out what they know, such as KWL charts, concept mapping, etc..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2" name="Action Button: Custom 3"/>
          <p:cNvSpPr/>
          <p:nvPr/>
        </p:nvSpPr>
        <p:spPr>
          <a:xfrm>
            <a:off x="7102440" y="5919840"/>
            <a:ext cx="550800" cy="352440"/>
          </a:xfrm>
          <a:custGeom>
            <a:avLst/>
            <a:gdLst>
              <a:gd name="textAreaLeft" fmla="*/ 22680 w 550800"/>
              <a:gd name="textAreaRight" fmla="*/ 528120 w 55080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33744" h="21600">
                <a:moveTo>
                  <a:pt x="0" y="0"/>
                </a:moveTo>
                <a:lnTo>
                  <a:pt x="33744" y="0"/>
                </a:lnTo>
                <a:lnTo>
                  <a:pt x="33744" y="21600"/>
                </a:lnTo>
                <a:lnTo>
                  <a:pt x="0" y="21600"/>
                </a:lnTo>
                <a:close/>
              </a:path>
              <a:path fill="lightenLess" w="33744" h="21600">
                <a:moveTo>
                  <a:pt x="0" y="0"/>
                </a:moveTo>
                <a:lnTo>
                  <a:pt x="33744" y="0"/>
                </a:lnTo>
                <a:lnTo>
                  <a:pt x="32345" y="1400"/>
                </a:lnTo>
                <a:lnTo>
                  <a:pt x="1400" y="1400"/>
                </a:lnTo>
                <a:close/>
              </a:path>
              <a:path fill="darken" w="33744" h="21600">
                <a:moveTo>
                  <a:pt x="33744" y="0"/>
                </a:moveTo>
                <a:lnTo>
                  <a:pt x="33744" y="21600"/>
                </a:lnTo>
                <a:lnTo>
                  <a:pt x="32345" y="20200"/>
                </a:lnTo>
                <a:lnTo>
                  <a:pt x="32345" y="1400"/>
                </a:lnTo>
                <a:close/>
              </a:path>
              <a:path fill="darkenLess" w="33744" h="21600">
                <a:moveTo>
                  <a:pt x="33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5" y="20200"/>
                </a:lnTo>
                <a:close/>
              </a:path>
              <a:path fill="lighten" w="33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Goals and Objectives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02240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oals are broad statements of educational intent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.g. To know the three theories pertaining to the extinction of the dinosaurs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b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</a:rPr>
              <a:t>Objectives are</a:t>
            </a:r>
            <a:r>
              <a:rPr b="1" lang="en-US" sz="2800" spc="-1" strike="noStrike">
                <a:solidFill>
                  <a:srgbClr val="b90000"/>
                </a:solidFill>
                <a:latin typeface="Chasm"/>
              </a:rPr>
              <a:t> </a:t>
            </a:r>
            <a:r>
              <a:rPr b="1" lang="en-US" sz="2800" spc="-1" strike="noStrike">
                <a:solidFill>
                  <a:srgbClr val="b90000"/>
                </a:solidFill>
                <a:latin typeface="Arial"/>
              </a:rPr>
              <a:t>the educational outcome defined in behavioral term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.g. Given a list of dinosaurs, students will be able to arrange them in their various groups with 80% accuracy.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Blooms Taxonomy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51160" y="1752480"/>
            <a:ext cx="41306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297000"/>
            <a:ext cx="77724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Remember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recall or remember the information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define, duplicate, list, memorize, recall, repeat, reproduce state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Understand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explain ideas or concepts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lassify, describe, discuss, explain, identify, locate, recognize, report, select, translate, paraphrase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Apply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use the information in a new way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hoose, demonstrate, dramatize, employ, illustrate, interpret, operate, schedule, sketch, solve, use, write.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0:05:58Z</dcterms:created>
  <dc:creator>Rosemary Parmigiani</dc:creator>
  <dc:description/>
  <dc:language>en-US</dc:language>
  <cp:lastModifiedBy>Rosemary Parmigiani</cp:lastModifiedBy>
  <dcterms:modified xsi:type="dcterms:W3CDTF">2010-08-30T02:35:50Z</dcterms:modified>
  <cp:revision>4</cp:revision>
  <dc:subject/>
  <dc:title>Session 2</dc:title>
</cp:coreProperties>
</file>